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wmf" ContentType="image/x-wmf"/>
  <Override PartName="/ppt/media/image18.wmf" ContentType="image/x-wmf"/>
  <Override PartName="/ppt/media/image17.jpeg" ContentType="image/jpeg"/>
  <Override PartName="/ppt/media/image16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15.wmf" ContentType="image/x-wmf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bbles, Sand, and S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17650"/>
          <a:stretch/>
        </p:blipFill>
        <p:spPr>
          <a:xfrm>
            <a:off x="457200" y="5715000"/>
            <a:ext cx="6602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BBLES, SAND, AND SIL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3897360" cy="472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89160" y="1676520"/>
            <a:ext cx="168264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CK N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a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gray, smooth rock. It was once the hot liquid lava that came out of a volc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ight, soft rock. It has ash in it from the fires of the volc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r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reddish bubbly rock. It was once the bubbly top of the l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191280" y="2286000"/>
            <a:ext cx="1962000" cy="2263680"/>
            <a:chOff x="6191280" y="2286000"/>
            <a:chExt cx="1962000" cy="226368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6191280" y="2286000"/>
              <a:ext cx="1962000" cy="22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 txBox="1"/>
            <p:nvPr/>
          </p:nvSpPr>
          <p:spPr>
            <a:xfrm>
              <a:off x="6191280" y="2286000"/>
              <a:ext cx="1962000" cy="226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2: Washing Three Ro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7560" y="1676520"/>
            <a:ext cx="755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focu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3: First Sor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are some rocks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28960" y="392040"/>
            <a:ext cx="5084640" cy="607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3: First Sor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4: Sorting G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5400000">
            <a:off x="951480" y="1105560"/>
            <a:ext cx="3000600" cy="383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16200000">
            <a:off x="4715640" y="2142360"/>
            <a:ext cx="3363840" cy="426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40040" y="609480"/>
            <a:ext cx="5070240" cy="5486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768240"/>
            <a:ext cx="6143400" cy="479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 Develop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ew descriptiv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focu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5: Start a Rock Colle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rocks can we find around u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55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ing rocks and beginning to sort them into groups are the initial steps for students to take in the role of geolog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ing is a fundamental process in ge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5: Start a Rock Colle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ed to find some rocks to collect, where would you l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ocument"/>
          <p:cNvSpPr/>
          <p:nvPr/>
        </p:nvSpPr>
        <p:spPr>
          <a:xfrm>
            <a:off x="4572000" y="2895480"/>
            <a:ext cx="3333600" cy="26672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0481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to Look for R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3327480" cy="192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SS Science Stor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ing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logist Tool K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Problem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Problem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rock people or p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k chec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889440" cy="50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on 2: River Rocks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46784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797040" indent="-56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ing River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7040" indent="-56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 Rocks b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7040" indent="-56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 and S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7040" indent="-56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ing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on 2: River Ro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id, liquid, and gaseous materials that make up Earth and its atmosphere are know collectively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th 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that has broken away from the continuos layer of bedrock is fou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ange from minuscule to the gigant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logists classify rock particles by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ze Ranges Used by FO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92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&lt;0.004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l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0.004 - 0.06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0.062 - 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2 - 4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4240" y="1600200"/>
            <a:ext cx="392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b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4 - 64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b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64 - 256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l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&gt;256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1: River Rocks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can rocks by sorted by siz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CUSS RESUL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698640" cy="480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392904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343400" y="1011240"/>
            <a:ext cx="4572000" cy="439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 Develop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b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focus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tive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2280" y="1447920"/>
            <a:ext cx="3882960" cy="502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3846600" cy="502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2: River Rocks by Siz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else can rocks be sorted by s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2: River Rocks by Siz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16200000">
            <a:off x="2247840" y="647280"/>
            <a:ext cx="4691160" cy="613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 Develop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b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focu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3: Sand and Sil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vials with 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it carefully and describe how it looks, feels, and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sand on a paper plate to do your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poon to move sand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shaking (5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e the plate gently back and forth on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a pinch of sand in the vial and use the hand lenses to make obser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CUSS OBSERV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you noticed about the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sand particles all the same s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 sand particles look like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CUSS OBSERV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might happen if you mix sand and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aper plate as a funnel to put the sand back in the v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the vial with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what happens to the water and s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happened to the water that was poured on the s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happened to the s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cap on the vial and shak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ed to the water and sand after you shook the v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water clear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hem settle over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AWING SHEE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what you see on the vials (p. 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als were set up earl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do you see in the v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many layers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is the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do you see on top of the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yer of material on top of the sand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ilt is a particle of rock much smaller than sand. It’s the rock size that mud is made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L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the layers in your draw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yers should be calle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d, sil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should the space between the top of the water and the vial cap be labeled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the si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off the water in the vials into a 1/4 conta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, touch the top layer of silt. Try to pull some out and rub it between your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6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N U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vials to clean up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little water, shake and dump the sand/water in ba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on 1: First Ro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1676520"/>
            <a:ext cx="7315200" cy="304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797040" indent="-56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R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97040" indent="-56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hing Three R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97040" indent="-56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 S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97040" indent="-56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rting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97040" indent="-56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a Rock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4: Exploring Cla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is new earth material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is this material cal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is special about this mater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can you do with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is happening to your hands as you work with this mater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is the smallest size of rock we’ve worked so f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ade of pieces of rock even smaller than sil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ust in your hands is actually dry clay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4: Exploring Cla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ch off a small piece of clay, about 1 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what do you think will happen if you put the small ball of clay in a vial with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t the small ball of clay in the v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ut water into the vial almost to the 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ch what happens to the clay in water for a minute or 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p the vial and shake it to see what happ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is happening to the cl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the water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t it sit over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2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7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4: Exploring Cla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ry, observe and squash the clay balls for a few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can you get the clay soft and pliable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ball in a plastic cup and add a littl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side, let it sit for a wh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pre set v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o shook v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clay vial and label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was the same in both v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was different in both v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vial with the ball of c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he c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stigation 3: Using Ro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75438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87240" indent="-4554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s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7240" indent="-455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Sand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7240" indent="-455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 Sculp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7240" indent="-455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y B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7240" indent="-455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Br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1: Rocks in U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2: Looking at Sandpap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and use: sand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sand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hand lenses to observe the sand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 fingers gently over th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2: Looking at Sandpap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rs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um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-sized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st 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2: Looking at Sandpap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white paper over the sand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 with the side of a pencil or crayon to record the sandpaper te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he rubb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sandpaper with the eyes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 sandpaper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3: Sand Sculptur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properties of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 matri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ke it the night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ri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aterial that holds articles of material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wo vials of sand and add one spoonful of matrix on top of the sand on a paper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 sand mi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sculptures to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1: Three Ro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are rocks differen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happens when rocks rub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4: Clay Bea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7560" y="1447920"/>
            <a:ext cx="755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operties of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ck together when is mol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rdens when it d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use these properties to make beads, then string the beads into neckl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4: Clay Bea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7560" y="1447920"/>
            <a:ext cx="7556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3 cm ball of 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oth with water if it cr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encil or straw to carve shapes and lines on the cl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ke with a piece of straw and let d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dry in 1-2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 your creations when clay is d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iece of yarn to make neck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5: Making Bri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 4: Soil Explor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87240" indent="-455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mad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7240" indent="-455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7240" indent="-455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ing Local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1: Homemade Soi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ok at new ma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appearance, feel, and smell of th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UW   m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mostly plant material that has decayed or ro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97180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1: Homemade Soi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new earth ma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ipe: 2 cups of sand, 1 cup of gravel, 1 cup small peb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humus to the m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for the mixture we just mad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oil is a combination of earth materials. Soil covers almost all of the Earth’s land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97180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PARATING SOI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 sample of soil in a paper 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separate by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h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obs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screens to separate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you able to separate the soil with the scre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did the humus end 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separate the hum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RT SOIL AND WATER INVESTIG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your own investi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materials from 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CUSS RESUL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2593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2: Soil Searc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28220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1: Three Ro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focu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3: Studying Local Soi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2746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 investi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the homemade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2746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2: Washing Three Ro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happens when rocks are wa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2: Washing Three Ro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486400" cy="324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3880" y="2209680"/>
            <a:ext cx="3359160" cy="436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t 2: Washing Three Ro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86400" cy="324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5:02:45Z</dcterms:created>
  <dc:creator>Ellen Mintz</dc:creator>
  <dc:description/>
  <dc:language>en-US</dc:language>
  <cp:lastModifiedBy>Network User</cp:lastModifiedBy>
  <dcterms:modified xsi:type="dcterms:W3CDTF">2009-06-26T13:33:08Z</dcterms:modified>
  <cp:revision>8</cp:revision>
  <dc:subject/>
  <dc:title>PEBBLES, SAND, AND SILT</dc:title>
</cp:coreProperties>
</file>